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0D9-BEF9-4725-9E75-A5086FCE65B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4BB-0B1B-4589-A104-0374A03927F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4B42-EE19-4EC9-8004-9F1A56BA47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DDAB-F2B0-4090-A507-CA10F35CFA6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E59-6065-409C-9699-606EB1C7F48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95ED-A7AB-4D10-9BDA-193505A63E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D21-2DF7-484A-A646-410DD5DC56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E9F-F423-4BDE-B08E-FA6AF05D5B2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2F17-8034-4605-B727-6D62ACAAFE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21AA-CBA4-4529-BE19-A5F12179C89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5AB-3EE0-4369-BF0F-ADBA53B8CBE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ADAC-83AC-4B00-9FF2-45BE8D1C7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A35A-CC3F-4D48-9CCD-7486B1E0B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7E4B-0065-4CAC-9D12-513698F17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C49B-8B9F-4A23-A2AC-86479EC9B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54E3-A3CA-4B49-9F92-23FD62EAB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B52E-2A7C-4385-B697-FAA4549BA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4722-B3C0-4750-98CB-B566510BD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2A4B-DCD9-4C75-9538-4B2986C3C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A8CC-7BAB-4205-A74F-F69DCA1B5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D89F-024B-4A13-BC8A-95933A327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BFFE-5AB4-4DC5-8AF3-FC52E0A10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14BE-72A9-4825-BE61-FBBABDC9E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2C5-AC83-49C9-A740-EBBC73F21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POSTA ORÇAMENT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1692360" y="2276640"/>
            <a:ext cx="5165640" cy="196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3"/>
          <p:cNvSpPr/>
          <p:nvPr/>
        </p:nvSpPr>
        <p:spPr>
          <a:xfrm>
            <a:off x="179280" y="1628640"/>
            <a:ext cx="878544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          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Qualidade de Vida    R$    2.000,00     R$    12.000,00     R$      14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de Extensão             R$ 125.024,50    R$  433.680,00     R$    558.704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Culturais                   R$ 144.600,00    R$  122.400,00     R$      67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1º semestre/2013           R$   21.650,00    R$   22.080,00      R$     43.73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2º semestre/2013           R$         -             R$             -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1º semestre/2013         R$   34.880,00    R$           0,00       R$     34.8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2º semestre/2013         R$         -                               -          R$     3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ital Cultural Temático 2º 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QV 2º semestre/2013                                                             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ulticamp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agoa do Sino, Sorocaba e Araras)                   R$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R$     83.765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R$ 1.222.08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653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ta de Distribuição dos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544760" y="2826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EX: R$ 83.765,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pesas de custeio: Gabinete/ Núcleos de extensão e Coordenadorias (R$ 40.765,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ndon e demais projetos esporádicos (R$ 4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rnada científica (R$ 17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 Aval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ciep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$ 4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o Disseminação e Difusão em diferentes míd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$ 18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11280" y="1700280"/>
          <a:ext cx="7848360" cy="4521240"/>
        </p:xfrm>
        <a:graphic>
          <a:graphicData uri="http://schemas.openxmlformats.org/drawingml/2006/table">
            <a:tbl>
              <a:tblPr/>
              <a:tblGrid>
                <a:gridCol w="1030320"/>
                <a:gridCol w="1434960"/>
                <a:gridCol w="1538280"/>
                <a:gridCol w="1317600"/>
                <a:gridCol w="1230480"/>
                <a:gridCol w="1296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3.31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4.23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3.99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3.412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9.558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8.8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9.4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12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0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15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92.19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63.67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6.59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94.212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5.158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de Extensão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Culturais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700280"/>
          <a:ext cx="8137440" cy="4552920"/>
        </p:xfrm>
        <a:graphic>
          <a:graphicData uri="http://schemas.openxmlformats.org/drawingml/2006/table">
            <a:tbl>
              <a:tblPr/>
              <a:tblGrid>
                <a:gridCol w="990360"/>
                <a:gridCol w="1498680"/>
                <a:gridCol w="1546200"/>
                <a:gridCol w="1413000"/>
                <a:gridCol w="1344600"/>
                <a:gridCol w="13446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0.7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8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7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9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3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97.8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0.4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1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5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1700280"/>
          <a:ext cx="7848360" cy="4502160"/>
        </p:xfrm>
        <a:graphic>
          <a:graphicData uri="http://schemas.openxmlformats.org/drawingml/2006/table">
            <a:tbl>
              <a:tblPr/>
              <a:tblGrid>
                <a:gridCol w="1139760"/>
                <a:gridCol w="1274760"/>
                <a:gridCol w="1314360"/>
                <a:gridCol w="1373040"/>
                <a:gridCol w="1373400"/>
                <a:gridCol w="1373040"/>
              </a:tblGrid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94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7.976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.155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5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.5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7.8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9.50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1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2.355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8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9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539640" y="1125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EPE – 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estre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2205000"/>
          <a:ext cx="7993080" cy="3813120"/>
        </p:xfrm>
        <a:graphic>
          <a:graphicData uri="http://schemas.openxmlformats.org/drawingml/2006/table">
            <a:tbl>
              <a:tblPr/>
              <a:tblGrid>
                <a:gridCol w="1282680"/>
                <a:gridCol w="1333800"/>
                <a:gridCol w="1334880"/>
                <a:gridCol w="1501920"/>
                <a:gridCol w="1384200"/>
                <a:gridCol w="115560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4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.41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1.178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9.7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2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0.4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0.17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.578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8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EPE – 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estre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74560" y="1628640"/>
          <a:ext cx="8101080" cy="4488120"/>
        </p:xfrm>
        <a:graphic>
          <a:graphicData uri="http://schemas.openxmlformats.org/drawingml/2006/table">
            <a:tbl>
              <a:tblPr/>
              <a:tblGrid>
                <a:gridCol w="1341720"/>
                <a:gridCol w="1406520"/>
                <a:gridCol w="1409400"/>
                <a:gridCol w="1360800"/>
                <a:gridCol w="1214280"/>
                <a:gridCol w="136836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9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.3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6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28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6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 Qualidade de Vida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133720"/>
          <a:ext cx="8569080" cy="3693960"/>
        </p:xfrm>
        <a:graphic>
          <a:graphicData uri="http://schemas.openxmlformats.org/drawingml/2006/table">
            <a:tbl>
              <a:tblPr/>
              <a:tblGrid>
                <a:gridCol w="2549520"/>
                <a:gridCol w="1987560"/>
                <a:gridCol w="2089080"/>
                <a:gridCol w="1942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1º semes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7.7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71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2º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7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13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3.4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4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os Acadêmicos (R$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337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IÇÃO DE RECURSOS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R$ 710.080,00 para programas de extensão (RP/RT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R$ 512.000,00 Fundo de Eq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00720" y="2205000"/>
          <a:ext cx="4105080" cy="2938680"/>
        </p:xfrm>
        <a:graphic>
          <a:graphicData uri="http://schemas.openxmlformats.org/drawingml/2006/table">
            <a:tbl>
              <a:tblPr/>
              <a:tblGrid>
                <a:gridCol w="447480"/>
                <a:gridCol w="365760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13 - Programa de Apoio a Atividades de Exten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 11 - Programa de Apoio a Atividades Cul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QV - Programa Qualidade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3"/>
          <p:cNvSpPr/>
          <p:nvPr/>
        </p:nvSpPr>
        <p:spPr>
          <a:xfrm>
            <a:off x="395280" y="2133720"/>
            <a:ext cx="7632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ário UFSCar (RP/RT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QV – Recursos Próp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  40.32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13 – Atividades de Extens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517.44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11 – Atividades Cultur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152.320,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-total 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/RTN</a:t>
            </a:r>
            <a:r>
              <a:rPr b="0" i="1" lang="en-US" sz="1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$  710.0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*R$  51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$ 1.222.08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* recursos gerados em 2012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0T19:16:37Z</cp:lastPrinted>
  <dcterms:modified xsi:type="dcterms:W3CDTF">2013-03-21T13:22:04Z</dcterms:modified>
  <cp:revision>47</cp:revision>
  <dc:subject/>
  <dc:title>Slide 1</dc:title>
</cp:coreProperties>
</file>