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162-07F5-4EF5-90CC-81F216DCF0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A1B-CCCF-4CC7-B8E7-5228B9D535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B936-DBF2-4762-879A-4FAC3CBAFAA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DDA-213B-4AF9-8175-E0E1B934096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52AA-2CAA-433B-AA88-6024F9A91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00D9-863F-4902-BED8-FBA323F63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7F75-6F18-409B-A30C-C6D9A2C76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4A8C-E7F1-4BF0-BA3A-A7E9739A0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3FA3-2663-4AE3-BD0A-8501C054B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9A39-2CB5-4C4F-BD8C-ED105828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12C3-F613-44CE-B334-17B6A1974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ED85-C259-43C1-9F3C-A7C619467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9D74-9EC9-4D15-811F-407473D2B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9FE8-A46A-4E05-BA36-4DB09FABB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26F8-9B6A-426B-AD92-02445C1A7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5D76-0CB3-431A-986E-B94B718C0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ADE-CAD2-4586-AF5E-92EE972992E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estação de Co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2124000" y="2276640"/>
            <a:ext cx="4734000" cy="18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PARA ALO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2205000"/>
          <a:ext cx="6985080" cy="3533760"/>
        </p:xfrm>
        <a:graphic>
          <a:graphicData uri="http://schemas.openxmlformats.org/drawingml/2006/table">
            <a:tbl>
              <a:tblPr/>
              <a:tblGrid>
                <a:gridCol w="5229360"/>
                <a:gridCol w="1755720"/>
              </a:tblGrid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E ALOCAÇÃO DOS 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(R$)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V: RECURSOS REMANESCENTES DO EDITAL DE EVENTOS  A SER UTILIZADO NA REVITALIZAÇÃO DOS ESPAÇOS DE EVENTOS DOS CA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50,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E REVITALIZAÇÃO DOS NÚCLEOS DE EXT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89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MEMORIA DA EXTENSA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640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51"/>
          <p:cNvSpPr/>
          <p:nvPr/>
        </p:nvSpPr>
        <p:spPr>
          <a:xfrm>
            <a:off x="1635120" y="155880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LDO FUNDO DE EQU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2"/>
          <p:cNvSpPr/>
          <p:nvPr/>
        </p:nvSpPr>
        <p:spPr>
          <a:xfrm>
            <a:off x="5727600" y="1557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111.640,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395280" y="2133720"/>
            <a:ext cx="7632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o UF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QV –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 36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3 – Atividades de Exten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46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1 – Atividades Cultur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136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b-total de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634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520.000,0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$ 1.154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* recursos gerados em 2011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1125360"/>
          <a:ext cx="8136000" cy="5080320"/>
        </p:xfrm>
        <a:graphic>
          <a:graphicData uri="http://schemas.openxmlformats.org/drawingml/2006/table">
            <a:tbl>
              <a:tblPr/>
              <a:tblGrid>
                <a:gridCol w="3390840"/>
                <a:gridCol w="1541520"/>
                <a:gridCol w="1544760"/>
                <a:gridCol w="1658880"/>
              </a:tblGrid>
              <a:tr h="319320">
                <a:tc gridSpan="4"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ÇAMENTO PROEX 2012 - APROVADO NA 36ª REUNIÃO DO C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 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85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31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.8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2.19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.8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 1º semestre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5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50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 2º semestre/2011 (PREVISÃ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/2011 (PREVISÃ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. 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54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                            1.154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47"/>
          <p:cNvSpPr/>
          <p:nvPr/>
        </p:nvSpPr>
        <p:spPr>
          <a:xfrm>
            <a:off x="2052000" y="40464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RECUR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39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268280"/>
          <a:ext cx="8425080" cy="5019840"/>
        </p:xfrm>
        <a:graphic>
          <a:graphicData uri="http://schemas.openxmlformats.org/drawingml/2006/table">
            <a:tbl>
              <a:tblPr/>
              <a:tblGrid>
                <a:gridCol w="2808360"/>
                <a:gridCol w="1440000"/>
                <a:gridCol w="1512720"/>
                <a:gridCol w="1079640"/>
                <a:gridCol w="1584360"/>
              </a:tblGrid>
              <a:tr h="8794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ATIV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 REC. DISTRIB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172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.247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924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313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.561,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51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4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24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21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807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12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8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58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72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77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66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73,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ça previsão de recursos destinados aos editais ACIEPE e Eventos 2º 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do ao convênio CBS 21 e Rondon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DORIA DE C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5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382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- 3.228,4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,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.1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6.461,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658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99"/>
          <p:cNvSpPr/>
          <p:nvPr/>
        </p:nvSpPr>
        <p:spPr>
          <a:xfrm>
            <a:off x="3348720" y="4762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00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268280"/>
          <a:ext cx="8713800" cy="4761000"/>
        </p:xfrm>
        <a:graphic>
          <a:graphicData uri="http://schemas.openxmlformats.org/drawingml/2006/table">
            <a:tbl>
              <a:tblPr/>
              <a:tblGrid>
                <a:gridCol w="2737080"/>
                <a:gridCol w="1655640"/>
                <a:gridCol w="1584360"/>
                <a:gridCol w="1224000"/>
                <a:gridCol w="1512720"/>
              </a:tblGrid>
              <a:tr h="109188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ATIV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RECURSOS DISTRIBUÍ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6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2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.8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.2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6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5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7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4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680,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6.000,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.8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.8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0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4"/>
          <p:cNvSpPr/>
          <p:nvPr/>
        </p:nvSpPr>
        <p:spPr>
          <a:xfrm>
            <a:off x="5573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5"/>
          <p:cNvSpPr/>
          <p:nvPr/>
        </p:nvSpPr>
        <p:spPr>
          <a:xfrm>
            <a:off x="3351240" y="26028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TO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1557360"/>
          <a:ext cx="7991280" cy="4105080"/>
        </p:xfrm>
        <a:graphic>
          <a:graphicData uri="http://schemas.openxmlformats.org/drawingml/2006/table">
            <a:tbl>
              <a:tblPr/>
              <a:tblGrid>
                <a:gridCol w="2230200"/>
                <a:gridCol w="2089080"/>
                <a:gridCol w="1872000"/>
                <a:gridCol w="1800000"/>
              </a:tblGrid>
              <a:tr h="6588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DESP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.12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.461,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658,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.88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.84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04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5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.301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.698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8"/>
          <p:cNvSpPr/>
          <p:nvPr/>
        </p:nvSpPr>
        <p:spPr>
          <a:xfrm>
            <a:off x="5789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9"/>
          <p:cNvSpPr/>
          <p:nvPr/>
        </p:nvSpPr>
        <p:spPr>
          <a:xfrm>
            <a:off x="2050920" y="404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OR FONTE DE REC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341360"/>
          <a:ext cx="8280360" cy="4568760"/>
        </p:xfrm>
        <a:graphic>
          <a:graphicData uri="http://schemas.openxmlformats.org/drawingml/2006/table">
            <a:tbl>
              <a:tblPr/>
              <a:tblGrid>
                <a:gridCol w="2836800"/>
                <a:gridCol w="1994040"/>
                <a:gridCol w="1763640"/>
                <a:gridCol w="1685880"/>
              </a:tblGrid>
              <a:tr h="831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F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CAÇÃ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O DE EQU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.359,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640,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PRÓPRIOS/ RT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.942,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057,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5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.301,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.698,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052000" y="4046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ROEX - 20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3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26920" y="1125360"/>
          <a:ext cx="7561440" cy="5112000"/>
        </p:xfrm>
        <a:graphic>
          <a:graphicData uri="http://schemas.openxmlformats.org/drawingml/2006/table">
            <a:tbl>
              <a:tblPr/>
              <a:tblGrid>
                <a:gridCol w="5523120"/>
                <a:gridCol w="20383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PROEX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                                                                                                      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SORA DE CARTEIRA ESTUDA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NO COPEX - ONIBUS/INSCRIÇÕES/PO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ERNOS ACIE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PROJETO RONDON (  Operação AÇAI e Operação 02 de Julh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0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CONVENIO CBS21 - BRASIL/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3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S DE VIAG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00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O NUMIECO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ISTAS DE AVALIAÇÃO DE EXTENSÃO, NÚCLEO CIDADANIA E PARA COORDENADORIA DE PROJETOS ESPECI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RETARIA DE EXTEN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55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RIAIS E PASSAG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03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OS DE EXTENSÃO/DIVE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93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SÃO RELATÓRIO DE PROGRA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AOS PROJETOS OBSERVATÓRIO DE  POLÍTICAS DE PERMANÊNCIA ESTUDANTIL E PRO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4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22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9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spaço Reservado para Conteúdo 4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ProEx - Andréia</cp:lastModifiedBy>
  <cp:lastPrinted>2013-03-21T11:19:43Z</cp:lastPrinted>
  <dcterms:modified xsi:type="dcterms:W3CDTF">2013-03-21T13:11:13Z</dcterms:modified>
  <cp:revision>50</cp:revision>
  <dc:subject/>
  <dc:title>Slide 1</dc:title>
</cp:coreProperties>
</file>